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450D-ED00-4144-A982-B015448E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8B8E-11EB-4370-ABC7-475D9AE6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F235-925D-4941-92B1-B12B57FB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424A-6B67-4796-8254-B798A90A6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3E6-BC2F-4325-A25A-006D27450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69CB-A7A1-4B46-B909-A98A2605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780-9CE1-47E5-A0E0-E82D8262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5195-70D8-4252-86AE-0EC874FE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61E1-BE68-4F07-8B4A-399165CA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1D37-D331-4954-A738-CFAE20D4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DF9B-6634-48A9-9877-0236A8B03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9329-1AC4-42B4-8F15-78C2E84C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6F36D-0549-4B83-86B3-29147F415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the EU legislation concerning financial sector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8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9 December 2004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Directors remuneration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should ensure that listed companies disclose their policy on directors’ remunera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to adopt measures in four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remuneration poli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hareholders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disclosure of the remuneration of individual director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proval of share and share option schem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Recommendation on role of independent Director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569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commendation was adopted by the European Commission on 6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have been invited to reinforce the presence and role of independent non-executive directors on listed companies’ boar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ntion to protect shareholders, employees and the public against potential conflicts of interest by an independent check on management deci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opted by the European commission on 30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co-ordinated action i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inancial servic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pany la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ccounting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tax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supervision and enforcement areas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ategy to prevent financial and corporate malpractice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1374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policy initiatives in taxation and law enforcement field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elements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enhanced transparenc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improved traceabilit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better co-ordinated enforce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77320" cy="44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to simplify the formation, maintenance and alteration of public LLC capital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ur key revisions of the EU’s Accounting Directive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Capital requirements framework for banks and investment firm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pdate of the anti-money laundering Directive (June 2004)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5. Proposed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to amend the Second Company law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29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ed Directive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plify the formation, maintenance and alteration of companies’ capit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mend the related parts of the Second Company law Direc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his proposal is a part of Commission’s Action Plan on Company Law and Corporate Governa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228600"/>
            <a:ext cx="777384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0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our key revisions of the EU’s Accounting Directives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8 Octo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key revision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tablish that board members are collectively responsible for financial statements and key non-financial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unlisted companies’ transactions with related parties more transparen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e that all companies provide full information about off-balance sheet arrangement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e listed companies issue an annual “corporate governance statement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28600"/>
            <a:ext cx="84978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ew Capital requirements framework for banks and investment firm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14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roposal is aimed at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suring the coherent application throughout the EU of the new international capital requirements framework recently agreed by the Basel Committee (BASEL II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king sure that financial institutions capital is more closely aligned with the risks they fac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hancing consumer protec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inforcing the financial stabil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8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pdate of the 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353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30 June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pdate and improve the EU’s existing anti-money laundering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iden the scope of the Directiv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nsure the coherent application in all Member States of the latest Recommendations of the FAT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989000"/>
            <a:ext cx="79948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ic shareholders’ rights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ll to CESR for technical advise on possible measures concerning the credit rating agencies (July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. Consultation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 on Basic shareholders’ right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2204640"/>
            <a:ext cx="87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European Commission on 16 Sept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n issu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ilitating the exercise of basic shareholders’ rights in company general meeting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lving the problems in cross-border exercise of such righ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posal for a Directive has been consider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the responses – 16 December 2004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80520"/>
            <a:ext cx="78422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0.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all to CESR for technical advise on possible measures concerning the credit rating agencies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920" y="2349000"/>
            <a:ext cx="86104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European commission has provided the CESR with a call for technical advice on 5 July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 core issues to be addresse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tential conflicts of interests within rating agenc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parency of rating agencies’ methodologie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gal treatment of rating agencies’ access to inside informatio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cerns about possible lack of competition in the market for provision of credit rating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requested deadline for delivery of advice is 1 April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0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2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7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gulation endorsing the IAS 39 on Financial Instruments (Nov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directors’ remuneration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commendation on the role of independent non-executive directors (Octo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ategy to prevent financial and corporate malpractice (September 2004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IAS 39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9 November 2004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 (Recognition and measurement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tain provisions on the use of the full fair value option and on hedge accounting are excluded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be legally binding from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4-12-15T13:56:13Z</dcterms:modified>
  <cp:revision>479</cp:revision>
  <dc:subject/>
  <dc:title>PROPOSED AMENDMENTS AND LATEST CHANGES IN THE EU DIRECTIVES FOR THE FINANCIAL SECTOR </dc:title>
</cp:coreProperties>
</file>